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3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d62"/>
                </a:solidFill>
                <a:latin typeface="Tahoma"/>
              </a:rPr>
              <a:t>Click to move the slide</a:t>
            </a:r>
            <a:endParaRPr b="0" lang="en-US" sz="3200" spc="-1" strike="noStrike">
              <a:solidFill>
                <a:srgbClr val="002d62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5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915493-BEBF-4130-8A3D-E6691C863D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59F8DC-5623-4369-AB98-BA9C09539B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916C9F-1689-4895-8B43-133FD089F7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268280" y="725400"/>
            <a:ext cx="4783320" cy="358956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3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F2F96-1B2A-4CB4-A878-144AB02DC9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0440" y="269640"/>
            <a:ext cx="776592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9720" y="1123920"/>
            <a:ext cx="801396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29720" y="3508200"/>
            <a:ext cx="801396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3735F-D592-4052-9AB1-755555D3F3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0440" y="269640"/>
            <a:ext cx="776592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29720" y="1123920"/>
            <a:ext cx="391068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36240" y="1123920"/>
            <a:ext cx="391068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29720" y="3508200"/>
            <a:ext cx="391068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36240" y="3508200"/>
            <a:ext cx="391068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B2F00-B8E1-4CF3-8AE3-7C99DBBA77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0440" y="269640"/>
            <a:ext cx="776592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29720" y="1123920"/>
            <a:ext cx="258012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39080" y="1123920"/>
            <a:ext cx="258012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48800" y="1123920"/>
            <a:ext cx="258012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29720" y="3508200"/>
            <a:ext cx="258012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39080" y="3508200"/>
            <a:ext cx="258012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48800" y="3508200"/>
            <a:ext cx="258012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A08BD-1767-49EE-8348-DD9F72C483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F3094-E63A-416C-B167-5BEE9AC1FF8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0440" y="269640"/>
            <a:ext cx="776592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29720" y="1123920"/>
            <a:ext cx="8013960" cy="456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9EB33-CEC1-4D25-B642-D65B635BDA7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0440" y="269640"/>
            <a:ext cx="776592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9720" y="1123920"/>
            <a:ext cx="801396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18D15-9EF1-4D3E-AE0F-6D5C314163A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0440" y="269640"/>
            <a:ext cx="776592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29720" y="1123920"/>
            <a:ext cx="391068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6240" y="1123920"/>
            <a:ext cx="391068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28751-EFF4-4C81-80B3-4FACBCF45BF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0440" y="269640"/>
            <a:ext cx="776592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D806E-3AE0-4060-BE45-2ED0D4F9479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60440" y="269640"/>
            <a:ext cx="776592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93886-4765-411F-AA95-EFD98884891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0440" y="269640"/>
            <a:ext cx="776592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29720" y="1123920"/>
            <a:ext cx="391068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6240" y="1123920"/>
            <a:ext cx="391068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29720" y="3508200"/>
            <a:ext cx="391068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211FE-209A-489F-B94D-1D86EA348C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0440" y="269640"/>
            <a:ext cx="776592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29720" y="1123920"/>
            <a:ext cx="8013960" cy="456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38979-2841-44D9-8FE6-9EBDD74D04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0440" y="269640"/>
            <a:ext cx="776592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29720" y="1123920"/>
            <a:ext cx="391068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36240" y="1123920"/>
            <a:ext cx="391068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36240" y="3508200"/>
            <a:ext cx="391068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3AC43-CBF6-4B86-AA6B-85CFD9A712C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0440" y="269640"/>
            <a:ext cx="776592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9720" y="1123920"/>
            <a:ext cx="391068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36240" y="1123920"/>
            <a:ext cx="391068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29720" y="3508200"/>
            <a:ext cx="801396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2B961-99FA-40D2-A6D3-3BA51B4B2F1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0440" y="269640"/>
            <a:ext cx="776592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29720" y="1123920"/>
            <a:ext cx="801396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29720" y="3508200"/>
            <a:ext cx="801396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1785D-4108-4C4D-9731-9DB68710F62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0440" y="269640"/>
            <a:ext cx="776592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29720" y="1123920"/>
            <a:ext cx="391068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6240" y="1123920"/>
            <a:ext cx="391068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29720" y="3508200"/>
            <a:ext cx="391068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36240" y="3508200"/>
            <a:ext cx="391068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7AF13-FEA9-4AD7-A244-E72A9997DE2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0440" y="269640"/>
            <a:ext cx="776592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29720" y="1123920"/>
            <a:ext cx="258012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39080" y="1123920"/>
            <a:ext cx="258012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48800" y="1123920"/>
            <a:ext cx="258012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29720" y="3508200"/>
            <a:ext cx="258012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439080" y="3508200"/>
            <a:ext cx="258012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48800" y="3508200"/>
            <a:ext cx="258012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84C10-6FA8-4BD3-A73D-BBF9357E50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0440" y="269640"/>
            <a:ext cx="776592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29720" y="1123920"/>
            <a:ext cx="801396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569B9-55F4-4E3D-8645-842B0988E8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0440" y="269640"/>
            <a:ext cx="776592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29720" y="1123920"/>
            <a:ext cx="391068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36240" y="1123920"/>
            <a:ext cx="391068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B2268-81A8-4E64-B76C-7CEBA39D2E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0440" y="269640"/>
            <a:ext cx="776592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FAC5A-5F12-4400-A301-3EAD8B1E00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0440" y="269640"/>
            <a:ext cx="776592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F5A32-C718-4624-967E-B6F160C537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0440" y="269640"/>
            <a:ext cx="776592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29720" y="1123920"/>
            <a:ext cx="391068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36240" y="1123920"/>
            <a:ext cx="391068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29720" y="3508200"/>
            <a:ext cx="391068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B3AD0-EA3B-40B3-A7A4-6C12A4DCFB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0440" y="269640"/>
            <a:ext cx="776592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29720" y="1123920"/>
            <a:ext cx="391068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36240" y="1123920"/>
            <a:ext cx="391068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36240" y="3508200"/>
            <a:ext cx="391068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1AF73-7A17-4F15-839A-24F1CF29D1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0440" y="269640"/>
            <a:ext cx="776592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29720" y="1123920"/>
            <a:ext cx="391068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36240" y="1123920"/>
            <a:ext cx="391068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29720" y="3508200"/>
            <a:ext cx="801396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EFC11-72D1-4AD4-981E-77B748CF2D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0440" y="269640"/>
            <a:ext cx="776592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3845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9720" y="1123920"/>
            <a:ext cx="801396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1384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3845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0849a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3845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  <a:p>
            <a:pPr lvl="2" marL="1143000" indent="-228600">
              <a:spcBef>
                <a:spcPts val="700"/>
              </a:spcBef>
              <a:buClr>
                <a:srgbClr val="33cc33"/>
              </a:buClr>
              <a:buSzPct val="105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3845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  <a:p>
            <a:pPr lvl="3" marL="1600200" indent="-228600">
              <a:spcBef>
                <a:spcPts val="700"/>
              </a:spcBef>
              <a:buClr>
                <a:srgbClr val="e51837"/>
              </a:buClr>
              <a:buSzPct val="95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3845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3845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  <a:p>
            <a:pPr lvl="5" marL="2057400" indent="-228600">
              <a:spcBef>
                <a:spcPts val="700"/>
              </a:spcBef>
              <a:buClr>
                <a:srgbClr val="003562"/>
              </a:buClr>
              <a:buSzPct val="8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3845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  <a:p>
            <a:pPr lvl="6" marL="2057400" indent="-228600">
              <a:spcBef>
                <a:spcPts val="700"/>
              </a:spcBef>
              <a:buClr>
                <a:srgbClr val="003562"/>
              </a:buClr>
              <a:buSzPct val="8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3845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2" name="Line 7"/>
          <p:cNvSpPr/>
          <p:nvPr/>
        </p:nvSpPr>
        <p:spPr>
          <a:xfrm>
            <a:off x="441360" y="968400"/>
            <a:ext cx="8307360" cy="0"/>
          </a:xfrm>
          <a:prstGeom prst="line">
            <a:avLst/>
          </a:prstGeom>
          <a:ln w="25560">
            <a:solidFill>
              <a:srgbClr val="002d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Line 9"/>
          <p:cNvSpPr/>
          <p:nvPr/>
        </p:nvSpPr>
        <p:spPr>
          <a:xfrm>
            <a:off x="287280" y="6154560"/>
            <a:ext cx="8553600" cy="0"/>
          </a:xfrm>
          <a:prstGeom prst="line">
            <a:avLst/>
          </a:prstGeom>
          <a:ln w="9360">
            <a:solidFill>
              <a:srgbClr val="0035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362440" y="6324120"/>
            <a:ext cx="554040" cy="36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2d6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8382B-D976-4209-8990-D55C7AAF0A88}" type="slidenum">
              <a:rPr b="0" lang="en-US" sz="1600" spc="-1" strike="noStrike">
                <a:solidFill>
                  <a:srgbClr val="002d62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127160" y="6242040"/>
            <a:ext cx="527040" cy="5270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220680" y="6188040"/>
            <a:ext cx="779400" cy="6145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793880" y="6227640"/>
            <a:ext cx="549360" cy="549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5440" y="1528920"/>
            <a:ext cx="2344680" cy="484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sldNum" idx="2"/>
          </p:nvPr>
        </p:nvSpPr>
        <p:spPr>
          <a:xfrm>
            <a:off x="8362440" y="6324120"/>
            <a:ext cx="554040" cy="36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2d6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7E072-F173-4196-93B2-2F75AA25928F}" type="slidenum">
              <a:rPr b="0" lang="en-US" sz="1600" spc="-1" strike="noStrike">
                <a:solidFill>
                  <a:srgbClr val="002d62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852480" y="239760"/>
            <a:ext cx="1395360" cy="1395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3138480" y="318960"/>
            <a:ext cx="2513160" cy="1979640"/>
          </a:xfrm>
          <a:prstGeom prst="rect">
            <a:avLst/>
          </a:prstGeom>
          <a:ln w="0">
            <a:noFill/>
          </a:ln>
        </p:spPr>
      </p:pic>
      <p:grpSp>
        <p:nvGrpSpPr>
          <p:cNvPr id="48" name=""/>
          <p:cNvGrpSpPr/>
          <p:nvPr/>
        </p:nvGrpSpPr>
        <p:grpSpPr>
          <a:xfrm>
            <a:off x="6010200" y="271440"/>
            <a:ext cx="2530440" cy="1785960"/>
            <a:chOff x="6010200" y="271440"/>
            <a:chExt cx="2530440" cy="1785960"/>
          </a:xfrm>
        </p:grpSpPr>
        <p:pic>
          <p:nvPicPr>
            <p:cNvPr id="49" name="" descr=""/>
            <p:cNvPicPr/>
            <p:nvPr/>
          </p:nvPicPr>
          <p:blipFill>
            <a:blip r:embed="rId5"/>
            <a:stretch/>
          </p:blipFill>
          <p:spPr>
            <a:xfrm>
              <a:off x="6010200" y="1596960"/>
              <a:ext cx="2530440" cy="4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6"/>
            <a:stretch/>
          </p:blipFill>
          <p:spPr>
            <a:xfrm>
              <a:off x="6550200" y="271440"/>
              <a:ext cx="1406520" cy="1406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"/>
          <p:cNvSpPr/>
          <p:nvPr/>
        </p:nvSpPr>
        <p:spPr>
          <a:xfrm>
            <a:off x="511200" y="2219400"/>
            <a:ext cx="786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3845"/>
                </a:solidFill>
                <a:latin typeface="Century Gothic"/>
              </a:rPr>
              <a:t>Notre Dame extended Research Community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25440" y="2916000"/>
            <a:ext cx="8531280" cy="12600"/>
          </a:xfrm>
          <a:prstGeom prst="line">
            <a:avLst/>
          </a:prstGeom>
          <a:ln w="25560">
            <a:solidFill>
              <a:srgbClr val="0138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3480" y="3216240"/>
            <a:ext cx="84056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d62"/>
                </a:solidFill>
                <a:latin typeface="Century Gothic"/>
              </a:rPr>
              <a:t>From the Human Eye Down to Microscopes at the Nano-Scale</a:t>
            </a:r>
            <a:endParaRPr b="0" lang="en-US" sz="3600" spc="-1" strike="noStrike">
              <a:solidFill>
                <a:srgbClr val="002d62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300480" y="4529160"/>
            <a:ext cx="5462640" cy="175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49a8"/>
                </a:solidFill>
                <a:latin typeface="Century Gothic"/>
              </a:rPr>
              <a:t>Michael Crocker</a:t>
            </a:r>
            <a:endParaRPr b="0" lang="en-US" sz="2000" spc="-1" strike="noStrike">
              <a:solidFill>
                <a:srgbClr val="002d62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49a8"/>
                </a:solidFill>
                <a:latin typeface="Century Gothic"/>
              </a:rPr>
              <a:t>Valerie Goss</a:t>
            </a:r>
            <a:endParaRPr b="0" lang="en-US" sz="2000" spc="-1" strike="noStrike">
              <a:solidFill>
                <a:srgbClr val="002d62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49a8"/>
                </a:solidFill>
                <a:latin typeface="Century Gothic"/>
              </a:rPr>
              <a:t>Pat Mooney</a:t>
            </a:r>
            <a:endParaRPr b="0" lang="en-US" sz="2000" spc="-1" strike="noStrike">
              <a:solidFill>
                <a:srgbClr val="002d62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49a8"/>
                </a:solidFill>
                <a:latin typeface="Century Gothic"/>
              </a:rPr>
              <a:t>Rebecca Quardokus</a:t>
            </a:r>
            <a:endParaRPr b="0" lang="en-US" sz="2000" spc="-1" strike="noStrike">
              <a:solidFill>
                <a:srgbClr val="002d6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6307A-BB46-49B2-8581-F932FA74BFB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1000" y="-360"/>
            <a:ext cx="83106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13845"/>
                </a:solidFill>
                <a:latin typeface="Century Gothic"/>
              </a:rPr>
              <a:t>Outline</a:t>
            </a:r>
            <a:endParaRPr b="0" lang="en-US" sz="40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90160" y="1112400"/>
            <a:ext cx="84596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1384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3845"/>
                </a:solidFill>
                <a:latin typeface="Century Gothic"/>
              </a:rPr>
              <a:t>Discussion of Optics</a:t>
            </a: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849a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9a8"/>
                </a:solidFill>
                <a:latin typeface="Century Gothic"/>
              </a:rPr>
              <a:t>History</a:t>
            </a:r>
            <a:endParaRPr b="0" lang="en-US" sz="2400" spc="-1" strike="noStrike">
              <a:solidFill>
                <a:srgbClr val="0849a8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849a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9a8"/>
                </a:solidFill>
                <a:latin typeface="Century Gothic"/>
              </a:rPr>
              <a:t>Ranges of Visual Resolution</a:t>
            </a:r>
            <a:endParaRPr b="0" lang="en-US" sz="2400" spc="-1" strike="noStrike">
              <a:solidFill>
                <a:srgbClr val="0849a8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1384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3845"/>
                </a:solidFill>
                <a:latin typeface="Century Gothic"/>
              </a:rPr>
              <a:t>Atomic Force Microscopy (AFM)</a:t>
            </a: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849a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9a8"/>
                </a:solidFill>
                <a:latin typeface="Century Gothic"/>
              </a:rPr>
              <a:t>Operation</a:t>
            </a:r>
            <a:endParaRPr b="0" lang="en-US" sz="2400" spc="-1" strike="noStrike">
              <a:solidFill>
                <a:srgbClr val="0849a8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849a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9a8"/>
                </a:solidFill>
                <a:latin typeface="Century Gothic"/>
              </a:rPr>
              <a:t>Example Images</a:t>
            </a:r>
            <a:endParaRPr b="0" lang="en-US" sz="2400" spc="-1" strike="noStrike">
              <a:solidFill>
                <a:srgbClr val="0849a8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1384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3845"/>
                </a:solidFill>
                <a:latin typeface="Century Gothic"/>
              </a:rPr>
              <a:t>Scanning Tunneling Microscopy (STM)</a:t>
            </a: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1384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3845"/>
                </a:solidFill>
                <a:latin typeface="Century Gothic"/>
              </a:rPr>
              <a:t>Scanning Electron Microscopy (SEM)</a:t>
            </a: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100" name=""/>
          <p:cNvSpPr/>
          <p:nvPr/>
        </p:nvSpPr>
        <p:spPr>
          <a:xfrm>
            <a:off x="-1177920" y="2952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489F9-8423-438C-B8A3-8C7996C2DF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4T14:16:45Z</dcterms:created>
  <dc:creator>ak127</dc:creator>
  <dc:description/>
  <dc:language>en-US</dc:language>
  <cp:lastModifiedBy> </cp:lastModifiedBy>
  <dcterms:modified xsi:type="dcterms:W3CDTF">2009-08-28T03:40:28Z</dcterms:modified>
  <cp:revision>585</cp:revision>
  <dc:subject/>
  <dc:title>Slide 1</dc:title>
</cp:coreProperties>
</file>